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83A-D6F3-46D1-B062-A9E06473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21E-7FEB-4F14-BA19-75038DFC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D467-BDD8-4E0E-8365-273F922F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70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6240"/>
            <a:ext cx="218952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AA5-C218-4FC9-BD5A-40C9F2A3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F63-65D6-4D74-8D0A-8772A289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D809-95E4-46F2-8D9A-0ADD831C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3D1-591C-4BA6-99DB-87C263FA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831-2744-4465-9536-92E2A25A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423B-AFAF-4DB5-B83E-B976A7E8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DD3-0A78-4D34-AEF4-CD02C152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6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53F-4048-4961-98F1-08ED4890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70240"/>
            <a:ext cx="331848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6240"/>
            <a:ext cx="6800760" cy="3237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DC0-3307-49F0-9351-704E9C3F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70240"/>
            <a:ext cx="6800760" cy="67881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marL="395280" indent="-39528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286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7600" indent="-263520"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43200" indent="-262080">
              <a:spcBef>
                <a:spcPts val="924"/>
              </a:spcBef>
              <a:buClr>
                <a:srgbClr val="000000"/>
              </a:buClr>
              <a:buFont typeface="Times New Roman"/>
              <a:buChar char="–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4" marL="2370240" indent="-2653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5" marL="2370240" indent="-2653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6" marL="2370240" indent="-265320">
              <a:spcBef>
                <a:spcPts val="924"/>
              </a:spcBef>
              <a:buClr>
                <a:srgbClr val="000000"/>
              </a:buClr>
              <a:buFont typeface="Times New Roman"/>
              <a:buChar char="»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9320"/>
            <a:ext cx="253332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9320"/>
            <a:ext cx="1666800" cy="7538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fld id="{601177F6-9004-4017-80A5-82ABF3009B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038480"/>
            <a:ext cx="4876920" cy="195192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66"/>
                </a:solidFill>
                <a:latin typeface="Comic Sans MS"/>
              </a:rPr>
              <a:t>            </a:t>
            </a:r>
            <a:r>
              <a:rPr b="1" lang="pt-BR" sz="1200" spc="-1" strike="noStrike">
                <a:solidFill>
                  <a:srgbClr val="006666"/>
                </a:solidFill>
                <a:latin typeface="Comic Sans MS"/>
              </a:rPr>
              <a:t>ENERGIA INT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omic Sans MS"/>
              </a:rPr>
              <a:t>O sucesso de uma organização está profundamente ligado à energia humana que lhe é transmitida por seus líderes e colaboradores, inclusive empregados, fornecedores, prestadores de serviços e, é claro, os clientes. Não é simples energia física de produzir, vender e entregar, mas uma energia interativa entre os diversos segmentos de atuação e de relacionamento da empresa, que transcende seus limites e provoca uma reação em cadeia que, polarizada positivamente, é a chave para o suces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1728720"/>
            <a:ext cx="2133720" cy="27673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bIns="900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3333ff"/>
                </a:solidFill>
                <a:latin typeface="Comic Sans MS"/>
              </a:rPr>
              <a:t>Seminário Semestral de Segurança e Qualidade da ENGES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3333ff"/>
                </a:solidFill>
                <a:latin typeface="Comic Sans MS"/>
              </a:rPr>
              <a:t>14 de novembro de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cc0099"/>
                </a:solidFill>
                <a:latin typeface="Comic Sans MS"/>
              </a:rPr>
              <a:t>Auditoria Periódica Manutenção Certificação ISO 9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cc0099"/>
                </a:solidFill>
                <a:latin typeface="Comic Sans MS"/>
              </a:rPr>
              <a:t>21 e 22 de novembro de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6666"/>
                </a:solidFill>
                <a:latin typeface="Comic Sans MS"/>
              </a:rPr>
              <a:t>Auditoria Anual Manutenção Certificação PBQP-H Nível “A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6666"/>
                </a:solidFill>
                <a:latin typeface="Comic Sans MS"/>
              </a:rPr>
              <a:t>21 e 22 de novembro de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1447920"/>
            <a:ext cx="25905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66"/>
                </a:solidFill>
                <a:latin typeface="BenguiatGot Bk BT"/>
              </a:rPr>
              <a:t>MANUTENÇAO CIVIL E INDUST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Comic Sans MS"/>
              </a:rPr>
              <a:t>Equipe de Tratamento Técnico das Ordens de Serviços e Obras de Manutenção Civil  CVRD/GASE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455840"/>
            <a:ext cx="259092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990033"/>
                </a:solidFill>
                <a:latin typeface="BenguiatGot Bk BT"/>
              </a:rPr>
              <a:t>PRECIPITADORES ELETROSTÁT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Comic Sans MS"/>
              </a:rPr>
              <a:t>Base Chaminé / Ventilador – Usina 6 - Nibra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orboletas" descr=""/>
          <p:cNvPicPr/>
          <p:nvPr/>
        </p:nvPicPr>
        <p:blipFill>
          <a:blip r:embed="rId1"/>
          <a:srcRect l="18350" t="0" r="46698" b="76698"/>
          <a:stretch/>
        </p:blipFill>
        <p:spPr>
          <a:xfrm>
            <a:off x="3352680" y="4267080"/>
            <a:ext cx="838440" cy="559080"/>
          </a:xfrm>
          <a:prstGeom prst="rect">
            <a:avLst/>
          </a:prstGeom>
          <a:ln w="9360">
            <a:solidFill>
              <a:srgbClr val="006666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57200" y="6095880"/>
            <a:ext cx="7086600" cy="468000"/>
          </a:xfrm>
          <a:prstGeom prst="rect">
            <a:avLst/>
          </a:pr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36000" bIns="36000" anchor="t">
            <a:spAutoFit/>
          </a:bodyPr>
          <a:p>
            <a:pPr marL="1523880" indent="-15238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ff"/>
                </a:solidFill>
                <a:latin typeface="BenguiatGot Bk BT"/>
              </a:rPr>
              <a:t>  </a:t>
            </a:r>
            <a:r>
              <a:rPr b="1" lang="en-US" sz="1400" spc="-1" strike="noStrike">
                <a:solidFill>
                  <a:srgbClr val="3399ff"/>
                </a:solidFill>
                <a:latin typeface="BenguiatGot Bk BT"/>
              </a:rPr>
              <a:t>VOCÊ SABIA?</a:t>
            </a:r>
            <a:r>
              <a:rPr b="1" lang="en-US" sz="1600" spc="-1" strike="noStrike">
                <a:solidFill>
                  <a:srgbClr val="008000"/>
                </a:solidFill>
                <a:latin typeface="AlgerianBas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 ÚLTIMA AULA - Professor Weber Figueiredo aos alunos da UERJ,          acompanhados dos pais em 13/08/02 Auditório UERJ - Trechos destac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4600" y="425520"/>
            <a:ext cx="7111800" cy="946080"/>
          </a:xfrm>
          <a:prstGeom prst="rect">
            <a:avLst/>
          </a:prstGeom>
          <a:gradFill rotWithShape="0">
            <a:gsLst>
              <a:gs pos="0">
                <a:srgbClr val="295263"/>
              </a:gs>
              <a:gs pos="50000">
                <a:srgbClr val="ffffff"/>
              </a:gs>
              <a:gs pos="100000">
                <a:srgbClr val="295263"/>
              </a:gs>
            </a:gsLst>
            <a:lin ang="5400000"/>
          </a:gradFill>
          <a:ln w="255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NGESTE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1155600" cy="46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11960" y="900000"/>
            <a:ext cx="8334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noAutofit/>
          </a:bodyPr>
          <a:p>
            <a:pPr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Accredi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Console"/>
              </a:rPr>
              <a:t>By the Rv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622840" y="528480"/>
          <a:ext cx="528840" cy="61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528480"/>
                    <a:ext cx="52884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262560" y="523800"/>
          <a:ext cx="690840" cy="847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62560" y="523800"/>
                    <a:ext cx="69084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7023240" y="1220760"/>
            <a:ext cx="533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OCS-0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034040" y="484200"/>
          <a:ext cx="435240" cy="65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34040" y="484200"/>
                    <a:ext cx="435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44600" y="990720"/>
            <a:ext cx="1689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OUTUBRO/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44800" y="749160"/>
            <a:ext cx="1866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ISO 9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ogo_pbqp-h" descr=""/>
          <p:cNvPicPr/>
          <p:nvPr/>
        </p:nvPicPr>
        <p:blipFill>
          <a:blip r:embed="rId9"/>
          <a:stretch/>
        </p:blipFill>
        <p:spPr>
          <a:xfrm>
            <a:off x="4572000" y="549360"/>
            <a:ext cx="939960" cy="745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8916840"/>
            <a:ext cx="3555720" cy="24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LOBO" descr=""/>
          <p:cNvPicPr/>
          <p:nvPr/>
        </p:nvPicPr>
        <p:blipFill>
          <a:blip r:embed="rId10"/>
          <a:stretch/>
        </p:blipFill>
        <p:spPr>
          <a:xfrm>
            <a:off x="1689120" y="576360"/>
            <a:ext cx="444600" cy="41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0744200"/>
            <a:ext cx="7086600" cy="2476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6600"/>
                </a:solidFill>
                <a:latin typeface="Comic Sans MS"/>
              </a:rPr>
              <a:t>FALE COM A ENGESTE:</a:t>
            </a:r>
            <a:r>
              <a:rPr b="0" lang="pt-BR" sz="10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pt-BR" sz="1000" spc="-1" strike="noStrike">
                <a:solidFill>
                  <a:srgbClr val="000000"/>
                </a:solidFill>
                <a:latin typeface="Comic Sans MS"/>
              </a:rPr>
              <a:t>Tel: 27 3227 9322 /  Fax: 27 3227 9467 / e-mail:</a:t>
            </a:r>
            <a:r>
              <a:rPr b="0" lang="pt-BR" sz="1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pt-BR" sz="1000" spc="-1" strike="noStrike">
                <a:solidFill>
                  <a:srgbClr val="0000ff"/>
                </a:solidFill>
                <a:latin typeface="Comic Sans MS"/>
              </a:rPr>
              <a:t>engeste@ebrnet.com.br</a:t>
            </a:r>
            <a:r>
              <a:rPr b="0" lang="pt-BR" sz="11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6653160"/>
            <a:ext cx="7239240" cy="41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omic Sans MS"/>
              </a:rPr>
              <a:t>...”Para mim é um privilégio ter sido escolhido paraninfo desta turma. A última aula do curso, o último encontro que já deixa saudades. É um momento festivo, mas também de reflexã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omic Sans MS"/>
              </a:rPr>
              <a:t>Se eu fosse escolhido paraninfo de uma Turma de Direito, talvez eu falasse da importância do advogado que defende a justiça e não apenas o réu. Se eu fosse escolhido para paraninfo de uma Turma de Medicina, talvez eu falasse da importância do médico que coloca o amor ao próximo acima dos seus lucros profissionais. Mas, como eu sou paraninfo de uma Turma de Engenharia, vou falar da importância do engenheiro para o desenvolvimento do Bras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omic Sans MS"/>
              </a:rPr>
              <a:t>Quando a indústria, ou mesmo a vovó, faz a bananada, ela cria empregos na indústria do açúcar, da cana-de-açúcar, do gás de cozinha, na indústria de fogões, panelas, colheres e até na de embalagens, porque tudo isto é necessário para fabricar a bananada. Resumindo, 1Kg de bananada é mais caro do que 1Kg de banana, porque a Bananada é igual a Banana mais Tecnologia agregada, e a sua fabricação criou mais empregos do que simplesmente colher o cacho de bananas da bananeir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omic Sans MS"/>
              </a:rPr>
              <a:t>Agora vamos falar de outro exemplo que acontece no dia a dia no comércio mundial de mercadorias. Em média, 1Kg de soja custa US$ 0,10, 1Kg de automóvel US$10,00, ou seja, 100 vezes mais; 1Kg de aparelho eletrônico US$ 100,00, 1Kg de avião US$ 1.000,00, ou seja, 10 toneladas de soja, e 1Kg de satélite US$ 50.000,00. Vejam, quanto mais tecnologia agregada tem um produto, maior é o seu preço e mais empregos foram gerados na sua fabricação. Os países ricos sabem disso muito bem, eles nos vendem uma placa de computador que pesa 100g, por US$ 250,00. Para pagarmos esta plaquinha eletrônica o Brasil precisa exportar 20 toneladas de minério de ferr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omic Sans MS"/>
              </a:rPr>
              <a:t>Creio que agora posso falar do ponto principal. Para que o nosso Brasil torne-se um país rico, com seu povo vivendo com dignidade, temos que produzir mais riquezas. Para tal, precisamos de Conhecimento ou Tecnologia, já que temos abundância de recursos materiais e energia. E quem desenvolve tecnologia são os cientistas que a concebem e os engenheiros que a aplicam. ... O Brasil entra com a mão de obra barata e os recursos naturais. Os projetos, a tecnologia, o chamado pulo do gato, fica no estrangeiro. É importante compreendermos que os donos dos projetos tecnológicos, são os donos da riqueza do mundo. Assim como as águas dos rios correm para o mar, as riquezas do mundo correm na direção dos países detentores das tecnologias avançadas. A dependência científica acarretou, para nós brasileiros, a dependência econômica, política e cultural. Tenho a convicção de que desenvolvimento científico e tecnológico aqui no Brasil, garantirá aos brasileiros a soberania das decisões econômicas, políticas e culturais, garantirá trocas mais justas no comércio exterior e a criação de mais e melhores empreg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omic Sans MS"/>
              </a:rPr>
              <a:t>Quando isto ocorrer, o nosso país poderá aproveitar de forma muito mais eficaz a inteligência e o preparo intelectual dos brasileiros, e, neste particular, dos engenheiros.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ONIP" descr=""/>
          <p:cNvPicPr/>
          <p:nvPr/>
        </p:nvPicPr>
        <p:blipFill>
          <a:blip r:embed="rId11"/>
          <a:stretch/>
        </p:blipFill>
        <p:spPr>
          <a:xfrm>
            <a:off x="3940200" y="533520"/>
            <a:ext cx="555480" cy="761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0720" y="1676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56840" y="4038480"/>
            <a:ext cx="4876920" cy="0"/>
          </a:xfrm>
          <a:prstGeom prst="line">
            <a:avLst/>
          </a:prstGeom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14800"/>
            <a:ext cx="487692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91120"/>
            <a:ext cx="4876920" cy="0"/>
          </a:xfrm>
          <a:prstGeom prst="line">
            <a:avLst/>
          </a:prstGeom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590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057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VC-444F" descr=""/>
          <p:cNvPicPr/>
          <p:nvPr/>
        </p:nvPicPr>
        <p:blipFill>
          <a:blip r:embed="rId12"/>
          <a:stretch/>
        </p:blipFill>
        <p:spPr>
          <a:xfrm>
            <a:off x="2971800" y="1733400"/>
            <a:ext cx="2362320" cy="17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MVC-450F" descr=""/>
          <p:cNvPicPr/>
          <p:nvPr/>
        </p:nvPicPr>
        <p:blipFill>
          <a:blip r:embed="rId13"/>
          <a:stretch/>
        </p:blipFill>
        <p:spPr>
          <a:xfrm>
            <a:off x="457200" y="1733400"/>
            <a:ext cx="2362320" cy="17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257800" y="1447920"/>
            <a:ext cx="2362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cc00"/>
                </a:solidFill>
                <a:latin typeface="BenguiatGot Bk BT"/>
              </a:rPr>
              <a:t>AGENDA 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ongresso" descr=""/>
          <p:cNvPicPr/>
          <p:nvPr/>
        </p:nvPicPr>
        <p:blipFill>
          <a:blip r:embed="rId14"/>
          <a:stretch/>
        </p:blipFill>
        <p:spPr>
          <a:xfrm>
            <a:off x="5410080" y="5410080"/>
            <a:ext cx="685800" cy="56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3600" y="54864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Comic Sans MS"/>
              </a:rPr>
              <a:t>12º Congresso Brasileiro da Qualidade e Produtivid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Comic Sans MS"/>
              </a:rPr>
              <a:t>26 a 29/11/02 – Vitória/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4419720"/>
            <a:ext cx="2133720" cy="8766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4000" bIns="54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BenguiatGot Bk BT"/>
              </a:rPr>
              <a:t>6ª Qua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BenguiatGot Bk BT"/>
              </a:rPr>
              <a:t>6ª Semana da Qualidade 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BenguiatGot Bk BT"/>
              </a:rPr>
              <a:t>Construção Civil – Vitória / 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BenguiatGot Bk BT"/>
              </a:rPr>
              <a:t>De  05 a 08 de novembro de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ENGESTE" descr=""/>
          <p:cNvPicPr/>
          <p:nvPr/>
        </p:nvPicPr>
        <p:blipFill>
          <a:blip r:embed="rId15"/>
          <a:stretch/>
        </p:blipFill>
        <p:spPr>
          <a:xfrm>
            <a:off x="5486400" y="1905120"/>
            <a:ext cx="914400" cy="34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05520" y="54100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7:17:47Z</dcterms:created>
  <dc:creator>Leticia Murta Tedesco</dc:creator>
  <dc:description/>
  <dc:language>en-US</dc:language>
  <cp:lastModifiedBy>E</cp:lastModifiedBy>
  <dcterms:modified xsi:type="dcterms:W3CDTF">2002-11-05T18:54:35Z</dcterms:modified>
  <cp:revision>268</cp:revision>
  <dc:subject/>
  <dc:title>Slide sem título </dc:title>
</cp:coreProperties>
</file>