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gif" ContentType="image/gi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002588" cy="11314113"/>
  <p:notesSz cx="676116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0508-46C7-440D-B931-5674D5F83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680076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9760" y="6816240"/>
            <a:ext cx="680076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95A6-BB90-4B38-8E47-7F1CBD97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84560" y="3270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9760" y="6816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84560" y="6816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586E-E3DC-44A6-B155-5E5BEAFB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218952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99080" y="3270240"/>
            <a:ext cx="218952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98400" y="3270240"/>
            <a:ext cx="218952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9760" y="6816240"/>
            <a:ext cx="218952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99080" y="6816240"/>
            <a:ext cx="218952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98400" y="6816240"/>
            <a:ext cx="218952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517B-9ABC-431E-A770-3A71917B0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9760" y="3270240"/>
            <a:ext cx="6800760" cy="67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BC7B-2464-4BB9-A047-812C27D9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6800760" cy="67881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8E55-BE43-4BDD-B6AA-C5DFF03A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3318480" cy="67881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84560" y="3270240"/>
            <a:ext cx="3318480" cy="67881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8663-C1FA-4916-93B5-B481F59F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09FA-447C-4B6E-A030-BDF89E04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9760" y="1006200"/>
            <a:ext cx="680076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767F-E33B-4904-8A11-BCE0809A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84560" y="3270240"/>
            <a:ext cx="3318480" cy="67881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9760" y="6816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7B75-DA2E-4C79-8345-C58D5B83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3318480" cy="67881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84560" y="3270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84560" y="6816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AE54-AB1C-4856-86A4-FCF3CB79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84560" y="3270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9760" y="6816240"/>
            <a:ext cx="680076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9E98-3B10-4B5E-AC21-DDA197FF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9760" y="3270240"/>
            <a:ext cx="6800760" cy="67881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marL="395280" indent="-395280">
              <a:spcBef>
                <a:spcPts val="924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328680">
              <a:spcBef>
                <a:spcPts val="924"/>
              </a:spcBef>
              <a:buClr>
                <a:srgbClr val="000000"/>
              </a:buClr>
              <a:buFont typeface="Times New Roman"/>
              <a:buChar char="–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7600" indent="-263520">
              <a:spcBef>
                <a:spcPts val="924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3" marL="1843200" indent="-262080">
              <a:spcBef>
                <a:spcPts val="924"/>
              </a:spcBef>
              <a:buClr>
                <a:srgbClr val="000000"/>
              </a:buClr>
              <a:buFont typeface="Times New Roman"/>
              <a:buChar char="–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4" marL="2370240" indent="-263520">
              <a:spcBef>
                <a:spcPts val="924"/>
              </a:spcBef>
              <a:buClr>
                <a:srgbClr val="000000"/>
              </a:buClr>
              <a:buFont typeface="Times New Roman"/>
              <a:buChar char="»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5" marL="2370240" indent="-263520">
              <a:spcBef>
                <a:spcPts val="924"/>
              </a:spcBef>
              <a:buClr>
                <a:srgbClr val="000000"/>
              </a:buClr>
              <a:buFont typeface="Times New Roman"/>
              <a:buChar char="»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6" marL="2370240" indent="-263520">
              <a:spcBef>
                <a:spcPts val="924"/>
              </a:spcBef>
              <a:buClr>
                <a:srgbClr val="000000"/>
              </a:buClr>
              <a:buFont typeface="Times New Roman"/>
              <a:buChar char="»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0120" y="10309320"/>
            <a:ext cx="1666800" cy="753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lstStyle>
            <a:lvl1pPr indent="0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33480" y="10309320"/>
            <a:ext cx="2533320" cy="753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lstStyle>
            <a:lvl1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34080" y="10309320"/>
            <a:ext cx="1666800" cy="753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lstStyle>
            <a:lvl1pPr indent="0" algn="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fld id="{175E6EF7-62FE-4DCA-B7CB-3CD20B334E2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gif"/><Relationship Id="rId15" Type="http://schemas.openxmlformats.org/officeDocument/2006/relationships/image" Target="../media/image12.jpeg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6629400"/>
            <a:ext cx="457200" cy="3910680"/>
          </a:xfrm>
          <a:prstGeom prst="rect">
            <a:avLst/>
          </a:prstGeom>
          <a:noFill/>
          <a:ln w="63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108000" anchor="t">
            <a:spAutoFit/>
          </a:bodyPr>
          <a:p>
            <a:pPr marL="1523880" indent="-15238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ff33"/>
                </a:solidFill>
                <a:latin typeface="Comic Sans MS"/>
              </a:rPr>
              <a:t>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523880" indent="-15238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ff33"/>
                </a:solidFill>
                <a:latin typeface="Comic Sans MS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523880" indent="-15238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ff33"/>
                </a:solidFill>
                <a:latin typeface="Comic Sans MS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523880" indent="-15238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ff33"/>
                </a:solidFill>
                <a:latin typeface="Comic Sans MS"/>
              </a:rPr>
              <a:t>Ê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523880" indent="-15238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ff33"/>
                </a:solidFill>
                <a:latin typeface="Comic Sans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523880" indent="-15238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ff33"/>
                </a:solidFill>
                <a:latin typeface="Comic Sans MS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523880" indent="-15238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ff33"/>
                </a:solidFill>
                <a:latin typeface="Comic Sans MS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523880" indent="-15238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ff33"/>
                </a:solidFill>
                <a:latin typeface="Comic Sans MS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523880" indent="-15238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ff33"/>
                </a:solidFill>
                <a:latin typeface="Comic Sans MS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523880" indent="-15238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ff33"/>
                </a:solidFill>
                <a:latin typeface="Comic Sans MS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523880" indent="-15238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ff33"/>
                </a:solidFill>
                <a:latin typeface="Comic Sans MS"/>
              </a:rPr>
              <a:t>?</a:t>
            </a:r>
            <a:r>
              <a:rPr b="1" lang="en-US" sz="1400" spc="-1" strike="noStrike">
                <a:solidFill>
                  <a:srgbClr val="800080"/>
                </a:solidFill>
                <a:latin typeface="AlgerianBas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4600" y="425520"/>
            <a:ext cx="7111800" cy="94608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50000">
                <a:srgbClr val="bed0e8"/>
              </a:gs>
              <a:gs pos="100000">
                <a:srgbClr val="003300"/>
              </a:gs>
            </a:gsLst>
            <a:lin ang="8100000"/>
          </a:gradFill>
          <a:ln w="255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ENGESTE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1155600" cy="468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511960" y="900000"/>
            <a:ext cx="8334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noAutofit/>
          </a:bodyPr>
          <a:p>
            <a:pPr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Accredit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By the Rv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621400" y="528480"/>
          <a:ext cx="528480" cy="614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21400" y="528480"/>
                    <a:ext cx="5284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6261120" y="523800"/>
          <a:ext cx="690480" cy="8478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61120" y="523800"/>
                    <a:ext cx="69048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7023240" y="1220760"/>
            <a:ext cx="5331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OCS-00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7034040" y="484200"/>
          <a:ext cx="435240" cy="658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34040" y="484200"/>
                    <a:ext cx="43524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444600" y="1054080"/>
            <a:ext cx="1689120" cy="2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BenguiatGot Bk BT"/>
              </a:rPr>
              <a:t>NOVEMBRO/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44800" y="749160"/>
            <a:ext cx="18669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ISO 9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_pbqp-h" descr=""/>
          <p:cNvPicPr/>
          <p:nvPr/>
        </p:nvPicPr>
        <p:blipFill>
          <a:blip r:embed="rId8"/>
          <a:stretch/>
        </p:blipFill>
        <p:spPr>
          <a:xfrm>
            <a:off x="4572000" y="549360"/>
            <a:ext cx="939960" cy="745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3520" y="8916840"/>
            <a:ext cx="3555720" cy="24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GLOBO" descr=""/>
          <p:cNvPicPr/>
          <p:nvPr/>
        </p:nvPicPr>
        <p:blipFill>
          <a:blip r:embed="rId9"/>
          <a:stretch/>
        </p:blipFill>
        <p:spPr>
          <a:xfrm>
            <a:off x="1689120" y="576360"/>
            <a:ext cx="444600" cy="414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200" y="10667880"/>
            <a:ext cx="7086600" cy="3240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6600"/>
                </a:solidFill>
                <a:latin typeface="Tahoma"/>
              </a:rPr>
              <a:t>FALE COM A ENGESTE:</a:t>
            </a:r>
            <a:r>
              <a:rPr b="0" lang="pt-BR" sz="1100" spc="-1" strike="noStrike">
                <a:solidFill>
                  <a:srgbClr val="006666"/>
                </a:solidFill>
                <a:latin typeface="Tahoma"/>
              </a:rPr>
              <a:t> </a:t>
            </a:r>
            <a:r>
              <a:rPr b="1" lang="pt-BR" sz="1100" spc="-1" strike="noStrike">
                <a:solidFill>
                  <a:srgbClr val="000000"/>
                </a:solidFill>
                <a:latin typeface="Tahoma"/>
              </a:rPr>
              <a:t>Tel: 27 3227 9322 /  Fax: 27 3227 9467 / e-mail:</a:t>
            </a:r>
            <a:r>
              <a:rPr b="0" lang="pt-BR" sz="11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1100" spc="-1" strike="noStrike">
                <a:solidFill>
                  <a:srgbClr val="0000ff"/>
                </a:solidFill>
                <a:latin typeface="Arial"/>
              </a:rPr>
              <a:t>engeste@ebrnet.com.br</a:t>
            </a:r>
            <a:r>
              <a:rPr b="0" lang="pt-BR" sz="11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7010280"/>
            <a:ext cx="6629400" cy="39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Comic Sans MS"/>
              </a:rPr>
              <a:t>O Engenheiro do futuro é um profissional polivalente, com conhecimento em recursos humanos e gestão. A lista de atributos que este profissional deverá ter não é pequena: liderança, boa comunicação, conhecimento de planejamento, controle de produção e gestão de custos. Ser um bom negociador, dominar a língua inglesa, conhecer aspectos contratuais e jurídicos e, principalmente, saber lidar com client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Comic Sans MS"/>
              </a:rPr>
              <a:t>Com a transformação dos canteiros, o Engenheiro Civil tem que agir muitas vezes como Engenheiro de Produção, e ele, que sempre teve que lidar com situações que envolvem contas, agora tem que motivar grupos, gerenciar frentes de trabalho, conviver com clientes e negociações. O mercado exige, cada vez mais, rapidez e precisão de decisões em níveis dificilmente alcançáveis sem uma dedicação sistemátic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Comic Sans MS"/>
              </a:rPr>
              <a:t>A empresa será outro ponto importante para se entender o futuro do engenheiro, pois o engenheiro será, em boa parte, moldado para integrar uma construtora do futuro, e o papel mais importante do engenheiro para a construtora é na proposição de negócios, vendo do canteiro, como a empresa se posiciona no mercado. Trabalhar na produção pode trazer idéias diferentes para a empres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Comic Sans MS"/>
              </a:rPr>
              <a:t>O objetivo da Construtora do Futuro é integrar o Engenheiro do Futuro. As empresas mais competitivas são as que desenvolvem “core competences”, competências difíceis de serem copiadas pelos seus competidores e que são percebidas pelos seus clientes. Assim, o Engenheiro do Futuro trabalhará numa Construtora do Futuro, ambos moldados para um negócio mais tecnológico e menos artesanal.                                                                                                                           </a:t>
            </a:r>
            <a:r>
              <a:rPr b="0" lang="pt-BR" sz="800" spc="-1" strike="noStrike">
                <a:solidFill>
                  <a:srgbClr val="000000"/>
                </a:solidFill>
                <a:latin typeface="Comic Sans MS"/>
              </a:rPr>
              <a:t>TECHNE/PINI</a:t>
            </a:r>
            <a:r>
              <a:rPr b="1" lang="pt-BR" sz="1600" spc="-1" strike="noStrike">
                <a:solidFill>
                  <a:srgbClr val="000000"/>
                </a:solidFill>
                <a:latin typeface="AlgerianBas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ONIP" descr=""/>
          <p:cNvPicPr/>
          <p:nvPr/>
        </p:nvPicPr>
        <p:blipFill>
          <a:blip r:embed="rId10"/>
          <a:stretch/>
        </p:blipFill>
        <p:spPr>
          <a:xfrm>
            <a:off x="3940200" y="533520"/>
            <a:ext cx="555480" cy="761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066680" y="6643800"/>
            <a:ext cx="6477120" cy="36828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1523880" indent="-15238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Profissão: Engenheiro Ci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SELO_3º%20SEMINÁRIO" descr=""/>
          <p:cNvPicPr/>
          <p:nvPr/>
        </p:nvPicPr>
        <p:blipFill>
          <a:blip r:embed="rId11"/>
          <a:stretch/>
        </p:blipFill>
        <p:spPr>
          <a:xfrm>
            <a:off x="2603520" y="1600200"/>
            <a:ext cx="596880" cy="870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2514600"/>
            <a:ext cx="29718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Comic Sans MS"/>
              </a:rPr>
              <a:t>No dia 14 de novembro a ENGESTE realizou o 3º Seminário Interno sobre Qualidade e Segurança na Construção Civil, contando com a participação dos engenheiros Bongestab – BONGESTAB Consultoria, que falou sobre “Qualidade de Vida”, Oswaldo Favarato – SECONCI com o tema “Segurança Preventiva no Trabalho” e Cidney Mazin – VEGA, que expôs sobre ”Segregação e Reciclagem de Resíduos na Construção Civil”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752480"/>
            <a:ext cx="259092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6666ff"/>
                </a:solidFill>
                <a:latin typeface="Busorama Md BT"/>
              </a:rPr>
              <a:t>ENGESTE REALIZA SEMINÁR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6666ff"/>
                </a:solidFill>
                <a:latin typeface="Busorama Md BT"/>
              </a:rPr>
              <a:t>DE QUALIDADE E SEGURANÇ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4338720"/>
            <a:ext cx="3962520" cy="2098080"/>
          </a:xfrm>
          <a:prstGeom prst="rect">
            <a:avLst/>
          </a:prstGeom>
          <a:noFill/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90000" bIns="900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9900"/>
                </a:solidFill>
                <a:latin typeface="Comic Sans MS"/>
              </a:rPr>
              <a:t>ENGESTE RENOVA CERTIFICAÇÃO ISO9002 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9900"/>
                </a:solidFill>
                <a:latin typeface="Comic Sans MS"/>
              </a:rPr>
              <a:t>MANTEM-SE NO NÍVEL “A” DO PBQP-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5222880"/>
            <a:ext cx="1981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Comic Sans MS"/>
              </a:rPr>
              <a:t>Em auditoria realizada nos dias 21 e 22 de novembro, a Engeste manteve sua Certificação pelas Normas ISO9002 e pelo PBQP-H no Nível “A”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DNV_Certificado_REDUZIDO" descr=""/>
          <p:cNvPicPr/>
          <p:nvPr/>
        </p:nvPicPr>
        <p:blipFill>
          <a:blip r:embed="rId12"/>
          <a:stretch/>
        </p:blipFill>
        <p:spPr>
          <a:xfrm>
            <a:off x="3657600" y="5029200"/>
            <a:ext cx="925560" cy="1295280"/>
          </a:xfrm>
          <a:prstGeom prst="rect">
            <a:avLst/>
          </a:prstGeom>
          <a:ln w="0">
            <a:noFill/>
          </a:ln>
        </p:spPr>
      </p:pic>
      <p:pic>
        <p:nvPicPr>
          <p:cNvPr id="67" name="PBQP-H_Certificado_REDUZIDO" descr=""/>
          <p:cNvPicPr/>
          <p:nvPr/>
        </p:nvPicPr>
        <p:blipFill>
          <a:blip r:embed="rId13"/>
          <a:stretch/>
        </p:blipFill>
        <p:spPr>
          <a:xfrm>
            <a:off x="6553080" y="5029200"/>
            <a:ext cx="922320" cy="1295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581280" y="1747800"/>
            <a:ext cx="3962520" cy="641520"/>
          </a:xfrm>
          <a:prstGeom prst="rect">
            <a:avLst/>
          </a:prstGeom>
          <a:noFill/>
          <a:ln w="3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BenguiatGot Bk BT"/>
              </a:rPr>
              <a:t>CVRD contrata ENGESTE para Construção do Novo DEPÓSITO INTERMEDIÁRIO DE RESÍDUOS DA OFICINA DE LOCOMOTIVAS  CVRD - Tubarã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2738520"/>
            <a:ext cx="2362320" cy="1554120"/>
          </a:xfrm>
          <a:prstGeom prst="rect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A ENGESTE executará as obras civis e o fornecimento e montagem das partes mecânica e elétrica. As obras tiveram início em 18 de novembro e estarão entregues em fevereiro de 20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Galpão%202" descr=""/>
          <p:cNvPicPr/>
          <p:nvPr/>
        </p:nvPicPr>
        <p:blipFill>
          <a:blip r:embed="rId14"/>
          <a:stretch/>
        </p:blipFill>
        <p:spPr>
          <a:xfrm>
            <a:off x="6095880" y="2336760"/>
            <a:ext cx="1371600" cy="928800"/>
          </a:xfrm>
          <a:prstGeom prst="rect">
            <a:avLst/>
          </a:prstGeom>
          <a:ln w="0">
            <a:noFill/>
          </a:ln>
        </p:spPr>
      </p:pic>
      <p:pic>
        <p:nvPicPr>
          <p:cNvPr id="71" name="efmm03_Locomotiva" descr=""/>
          <p:cNvPicPr/>
          <p:nvPr/>
        </p:nvPicPr>
        <p:blipFill>
          <a:blip r:embed="rId15"/>
          <a:srcRect l="3948" t="0" r="4835" b="9296"/>
          <a:stretch/>
        </p:blipFill>
        <p:spPr>
          <a:xfrm>
            <a:off x="6324480" y="3200400"/>
            <a:ext cx="1219320" cy="8208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72" name="Sem_03_Foto_04_Reduzida" descr=""/>
          <p:cNvPicPr/>
          <p:nvPr/>
        </p:nvPicPr>
        <p:blipFill>
          <a:blip r:embed="rId16"/>
          <a:stretch/>
        </p:blipFill>
        <p:spPr>
          <a:xfrm>
            <a:off x="457200" y="4419720"/>
            <a:ext cx="289548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7:17:47Z</dcterms:created>
  <dc:creator>Leticia Murta Tedesco</dc:creator>
  <dc:description/>
  <dc:language>en-US</dc:language>
  <cp:lastModifiedBy>E</cp:lastModifiedBy>
  <dcterms:modified xsi:type="dcterms:W3CDTF">2002-12-06T12:01:01Z</dcterms:modified>
  <cp:revision>292</cp:revision>
  <dc:subject/>
  <dc:title>Slide sem título </dc:title>
</cp:coreProperties>
</file>