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258-F342-4BBD-A80B-6E2C2B16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ED4-CEA2-417A-B289-7BB1E3A9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2FE-3E75-4F74-AC41-F667BEA0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FAE-566C-4871-BE6C-D2001ADB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4B6-85DA-4451-8800-919936F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71D-0778-490B-8F14-80B359A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77C-CD53-4646-9169-3E36F3F0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D7A-21A2-4CBB-B513-E3E2BCBB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171-1D7A-4231-B7E3-E8095C3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7E1-4F37-4404-94E3-0D8F5B0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863-894F-40B5-BBDB-48546026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849-362F-4949-8F3F-B976377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B44-5B7D-4874-877E-5E4AB63F7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6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7.wmf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8600"/>
            <a:ext cx="6096240" cy="82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ENGEST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990720" cy="379440"/>
          </a:xfrm>
          <a:prstGeom prst="rect">
            <a:avLst/>
          </a:prstGeom>
          <a:ln w="0">
            <a:noFill/>
          </a:ln>
        </p:spPr>
      </p:pic>
      <p:pic>
        <p:nvPicPr>
          <p:cNvPr id="43" name="GLOBO_PQ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304560" cy="29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24280" y="609480"/>
            <a:ext cx="7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29040" y="341280"/>
          <a:ext cx="428760" cy="496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9040" y="341280"/>
                    <a:ext cx="4287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81640" y="304920"/>
          <a:ext cx="561960" cy="685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1640" y="304920"/>
                    <a:ext cx="561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9920" y="884160"/>
            <a:ext cx="457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39000" y="304920"/>
          <a:ext cx="3524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9000" y="30492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880" y="762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ARÇO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57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128600"/>
            <a:ext cx="6324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    </a:t>
            </a: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A ENGESTE RECEBE CERTIFICAÇÃO do PBQP-H – NÍVEL “A”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867280" y="1235160"/>
          <a:ext cx="476280" cy="365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1235160"/>
                    <a:ext cx="476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1843200"/>
            <a:ext cx="1752480" cy="38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BenguiatGot Bk BT"/>
              </a:rPr>
              <a:t>A ENGESTE E O PBQP-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No dia 19 de fevereiro passado, a ENGESTE  recebeu o Atestado de Qualificação do Programa Brasileiro da Qualidade e Produtividade do Habitat – PBQP-H – </a:t>
            </a:r>
            <a:r>
              <a:rPr b="1" lang="en-US" sz="1000" spc="-1" strike="noStrike">
                <a:solidFill>
                  <a:srgbClr val="000080"/>
                </a:solidFill>
                <a:latin typeface="BenguiatGot Bk BT"/>
              </a:rPr>
              <a:t>NÍVEL “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Depois de ter sido certificada pelas normas ISO 9002 em abril do ano passado, a certificação pelo PBQP-H foi mais uma conquista da empresa, atestando o esforço empenhado em acompanhar os avanços relacionados a qualidade e produtividade na indústria da construção civil nos setores de habitação, saneamento, infra-estrutura e transportes urban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569960"/>
            <a:ext cx="237816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BenguiatGot Bk BT"/>
              </a:rPr>
              <a:t>PROGRAMA BRASILEIRO DA QUALIDADE E PRODUTIVIDADE DO HABIT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038320" y="2278080"/>
          <a:ext cx="2381400" cy="3360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8320" y="2278080"/>
                    <a:ext cx="238140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572000" y="1614600"/>
            <a:ext cx="1981080" cy="41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BenguiatGot Bk BT"/>
              </a:rPr>
              <a:t>O QUE É O PBQP-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É um programa que se propõe a organizar o setor da construção civil em torno de dois pontos principais: a melhoria da qualidade do habitat e a modernização produtiva. Fazem parte do programa diversas entidades representativas dos construtores, projetistas, fornecedores,  fabricantes de materiais e componentes, comunidade acadêmica e entidades de normalização, além do Governo Feder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O objetivo básico do PBQP-H é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“ </a:t>
            </a:r>
            <a:r>
              <a:rPr b="0" lang="en-US" sz="1000" spc="-1" strike="noStrike">
                <a:solidFill>
                  <a:srgbClr val="000000"/>
                </a:solidFill>
                <a:latin typeface="BenguiatGot Bk BT"/>
              </a:rPr>
              <a:t>apoiar o esforço brasileiro de modernidade pela promoção da qualidade e produtividade do setor da construção habitacional, com vistas a aumentar a competitividade de bens e serviços por ele produzidos, estimulando projetos que melhorem a qualidade do setor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40" y="5867280"/>
            <a:ext cx="3932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Comic Sans MS"/>
              </a:rPr>
              <a:t>CVRD – GALPÃO DE SULFA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PARCERIA ENGESTE X PRE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5791320"/>
            <a:ext cx="27432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AIXA ECONÔMICA FEDE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Agência Jardim Amér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8305920"/>
            <a:ext cx="2666880" cy="5331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FALE COM A ENGES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elefone: 27 3227 93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-mail: </a:t>
            </a:r>
            <a:r>
              <a:rPr b="1" lang="en-US" sz="1000" spc="-1" strike="noStrike">
                <a:solidFill>
                  <a:srgbClr val="3333ff"/>
                </a:solidFill>
                <a:latin typeface="Bookman Old Style"/>
              </a:rPr>
              <a:t>engeste@ebrnet.com.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EF_JD%20AMÉRICA" descr=""/>
          <p:cNvPicPr/>
          <p:nvPr/>
        </p:nvPicPr>
        <p:blipFill>
          <a:blip r:embed="rId13"/>
          <a:stretch/>
        </p:blipFill>
        <p:spPr>
          <a:xfrm>
            <a:off x="3733920" y="6259680"/>
            <a:ext cx="2666880" cy="189360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66" name="Galpão%20de%20Sulfato" descr=""/>
          <p:cNvPicPr/>
          <p:nvPr/>
        </p:nvPicPr>
        <p:blipFill>
          <a:blip r:embed="rId14"/>
          <a:srcRect l="0" t="10985" r="0" b="0"/>
          <a:stretch/>
        </p:blipFill>
        <p:spPr>
          <a:xfrm>
            <a:off x="380880" y="6459480"/>
            <a:ext cx="3210120" cy="23796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09-02T20:19:49Z</dcterms:modified>
  <cp:revision>14</cp:revision>
  <dc:subject/>
  <dc:title>Slide sem título </dc:title>
</cp:coreProperties>
</file>