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F88-A54E-4752-80CA-2509C18D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A60-E85D-4EC6-A5B3-940D2798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0D1-3A10-4B0F-8A37-169E5CE3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929-7965-4D83-A4B8-1A546874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E0B-A251-4EC9-8793-E985225B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1E7-F7AE-4104-90AB-F7798A41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C19-79EB-4E23-969A-A23D35B9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696-1258-4ADB-B541-5455C854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3E2-7855-4526-8505-DEEAC97C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75C-6D4C-4302-AD19-BEB25020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244-7AAF-4556-A0FF-65F3782D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5E0-11C0-412F-91BB-4461763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marL="395280" indent="-3952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286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760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43200" indent="-2620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4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5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6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9320"/>
            <a:ext cx="253332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fld id="{DCEE1EF7-8912-4212-A590-3A7BBF6852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4600" y="425520"/>
            <a:ext cx="7111800" cy="946080"/>
          </a:xfrm>
          <a:prstGeom prst="rect">
            <a:avLst/>
          </a:prstGeom>
          <a:gradFill rotWithShape="0">
            <a:gsLst>
              <a:gs pos="0">
                <a:srgbClr val="979797"/>
              </a:gs>
              <a:gs pos="50000">
                <a:srgbClr val="ffffff"/>
              </a:gs>
              <a:gs pos="100000">
                <a:srgbClr val="979797"/>
              </a:gs>
            </a:gsLst>
            <a:lin ang="5400000"/>
          </a:gra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NGESTE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155600" cy="468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11960" y="900000"/>
            <a:ext cx="833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ccredi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 the Rv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621400" y="528480"/>
          <a:ext cx="528480" cy="614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21400" y="528480"/>
                    <a:ext cx="5284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261120" y="523800"/>
          <a:ext cx="690480" cy="847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61120" y="523800"/>
                    <a:ext cx="6904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023240" y="1220760"/>
            <a:ext cx="533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CS-0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034040" y="484200"/>
          <a:ext cx="43524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34040" y="484200"/>
                    <a:ext cx="435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4600" y="1130400"/>
            <a:ext cx="1689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AIO/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4800" y="749160"/>
            <a:ext cx="1866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ISO 9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10210680"/>
            <a:ext cx="3505320" cy="6098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pt-BR" sz="1200" spc="-1" strike="noStrike">
                <a:solidFill>
                  <a:srgbClr val="000080"/>
                </a:solidFill>
                <a:latin typeface="Comic Sans MS"/>
              </a:rPr>
              <a:t>FALE COM A ENGES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elefone: 27 3227 93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-mail: </a:t>
            </a:r>
            <a:r>
              <a:rPr b="0" lang="pt-BR" sz="1200" spc="-1" strike="noStrike">
                <a:solidFill>
                  <a:srgbClr val="3333ff"/>
                </a:solidFill>
                <a:latin typeface="Comic Sans MS"/>
              </a:rPr>
              <a:t>engeste@ebrnet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_pbqp-h" descr=""/>
          <p:cNvPicPr/>
          <p:nvPr/>
        </p:nvPicPr>
        <p:blipFill>
          <a:blip r:embed="rId8"/>
          <a:stretch/>
        </p:blipFill>
        <p:spPr>
          <a:xfrm>
            <a:off x="4572000" y="549360"/>
            <a:ext cx="939960" cy="74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8916840"/>
            <a:ext cx="355572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GLOBO" descr=""/>
          <p:cNvPicPr/>
          <p:nvPr/>
        </p:nvPicPr>
        <p:blipFill>
          <a:blip r:embed="rId9"/>
          <a:stretch/>
        </p:blipFill>
        <p:spPr>
          <a:xfrm>
            <a:off x="1689120" y="576360"/>
            <a:ext cx="444600" cy="41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1676520"/>
            <a:ext cx="3429000" cy="509724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ibertyD"/>
              </a:rPr>
              <a:t>VOCÊ SABI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Na mitologia hindu existem muitos deuses. Shiva é um deus ascético que está sempre pronto a ajudar os necessitados. Certa vez, os deuses decidiram, em grupo, esvaziar um oceano para obter o pote de néctar da imortalidade que, segundo os boatos, estava no fundo do oceano. Entretanto, no processo, uma torrente de veneno foi liberada e começou a destruir o mundo inteiro. Percebendo que nenhum outro deus demonstrava a mínima vontade  de lidar com o veneno, Shiva apresentou-se como voluntário. Ele bebeu todo o veneno, ficando com uma marca azulada permanente na garga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O concreto deveria ser chamado de Sr. Shiva, pois a indústria cimenteira está reciclando cada vez mais resíduos orgânicos perigosos como combustível para a fabricação de clínquer, recuperando portanto o valor energético dos resíduos e ajudando na conservação dos combustíveis fósseis. É sabido que o clínquer de cimento Portland também é um escoadouro seguro para uma variedade de elementos tóxicos presentes nos resíduos químicos. Ademais, já que o concreto de cimento Portland é capaz de incorporar com  segurança milhões de toneladas de cinzas volantes, escórias e outros subprodutos residuais que contêm metais tóx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3366"/>
                </a:solidFill>
                <a:latin typeface="BenguiatGot Bk BT"/>
              </a:rPr>
              <a:t>ENGESTE ENTREGA OBRA DA CENTRAL DE RECICLAGEM DE RESÍDUOS AXO 82 – CV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997520"/>
            <a:ext cx="3505320" cy="18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66"/>
                </a:solidFill>
                <a:latin typeface="Comic Sans MS"/>
              </a:rPr>
              <a:t>ENGESTE É QUALIFICADA PELA ONI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A Organização Nacional da Indústria do Petróleo ONIP, em consonância com seus objetivos, vem atuando de forma a disponibilizar informações sobre as empresas instaladas no Brasil, qualificadas para o fornecimento de bens e serviços ao setor de petróleo e gá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No dia 20 de maio a ENGESTE recebeu o Certificado de Fornecedor Cadastrado na ONI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66"/>
                </a:solidFill>
                <a:latin typeface="Comic Sans MS"/>
              </a:rPr>
              <a:t>Diploma de Cadastro na ON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361440"/>
            <a:ext cx="3505320" cy="15930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Tahoma"/>
              </a:rPr>
              <a:t>CERTIFICAÇÃO  ISO 9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Auditoria Periódica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o dia 15 de maio a ENGESTE teve seu Sistema de Qualidade auditado e aprovado pela DNV, mantendo assim o seu Certificado de Sistema em Conformidade com as Normas ISO 9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XO%2082_02_A" descr=""/>
          <p:cNvPicPr/>
          <p:nvPr/>
        </p:nvPicPr>
        <p:blipFill>
          <a:blip r:embed="rId10"/>
          <a:stretch/>
        </p:blipFill>
        <p:spPr>
          <a:xfrm>
            <a:off x="457200" y="213840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62" name="ONIP_1" descr=""/>
          <p:cNvPicPr/>
          <p:nvPr/>
        </p:nvPicPr>
        <p:blipFill>
          <a:blip r:embed="rId11"/>
          <a:stretch/>
        </p:blipFill>
        <p:spPr>
          <a:xfrm>
            <a:off x="457200" y="6804000"/>
            <a:ext cx="3505320" cy="2416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4114800"/>
            <a:ext cx="32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3876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Escritório/ Galpão de Estocagem/ Baias  de Subprodutos/ Sistema de Prensa e Tanque de Ól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7162920"/>
            <a:ext cx="3429000" cy="3022560"/>
          </a:xfrm>
          <a:prstGeom prst="rect">
            <a:avLst/>
          </a:prstGeom>
          <a:noFill/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BenguiatGot Bk BT"/>
              </a:rPr>
              <a:t>ENGESTE RENOVA CONTRATO DE MANUTENÇAO CVRD – GAS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BenguiatGot Bk BT"/>
              </a:rPr>
              <a:t>A ENGESTE renovou o Contrato de Manutenção Civil de pequenos serviços das áreas compartilhadas da CVRD – GAS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BenguiatGot Bk BT"/>
              </a:rPr>
              <a:t>A ENGESTE vem aperfeiçoando a sua equipe e melhorando a cada ano a performance deste contrato. Estamos atendendo as Ordens de Serviços em prazos com freqüência média de 88%, e grau de satisfação  de usuários em 93%. A equipe está comprometida com nossos indicadores de qualidade e segurança, estando já há 162.000 horas sem acidentes de trabalho SPT/C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7:17:47Z</dcterms:created>
  <dc:creator>Leticia Murta Tedesco</dc:creator>
  <dc:description/>
  <dc:language>en-US</dc:language>
  <cp:lastModifiedBy>E</cp:lastModifiedBy>
  <dcterms:modified xsi:type="dcterms:W3CDTF">2002-06-04T18:37:52Z</dcterms:modified>
  <cp:revision>96</cp:revision>
  <dc:subject/>
  <dc:title>Slide sem título </dc:title>
</cp:coreProperties>
</file>