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2F6-07EA-4379-B79A-DEB586B2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5BF-F5F1-499E-9B8F-AA408FC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2F4-44F6-4C86-BBE5-2CD65327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068-E212-4B0B-BE06-23840965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B66-82F2-456E-AEAD-3222819B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6EB-6699-4F1A-84A6-F64F0720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770-35C9-48FE-9EE1-9FF80100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6EF-F08E-4671-BA77-9BBAA51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131-A78B-4991-AC70-9C655BD9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E58-948F-4273-9B3E-010F50A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6A9-7840-400E-AA8F-026A333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FB2-995C-462C-8A38-EEE0E7B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9320"/>
            <a:ext cx="253332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2057A2D2-960A-4D00-9AC7-BE1387ECFB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4600" y="425520"/>
            <a:ext cx="7111800" cy="9460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NGESTE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55600" cy="46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11960" y="900000"/>
            <a:ext cx="833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621400" y="528480"/>
          <a:ext cx="528480" cy="61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528480"/>
                    <a:ext cx="528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261120" y="523800"/>
          <a:ext cx="690480" cy="847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61120" y="523800"/>
                    <a:ext cx="690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023240" y="1220760"/>
            <a:ext cx="533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034040" y="484200"/>
          <a:ext cx="43524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4040" y="484200"/>
                    <a:ext cx="435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4600" y="990720"/>
            <a:ext cx="1689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UNHO/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749160"/>
            <a:ext cx="1866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_pbqp-h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939960" cy="74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8916840"/>
            <a:ext cx="3555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LOBO" descr=""/>
          <p:cNvPicPr/>
          <p:nvPr/>
        </p:nvPicPr>
        <p:blipFill>
          <a:blip r:embed="rId9"/>
          <a:stretch/>
        </p:blipFill>
        <p:spPr>
          <a:xfrm>
            <a:off x="1689120" y="576360"/>
            <a:ext cx="444600" cy="414360"/>
          </a:xfrm>
          <a:prstGeom prst="rect">
            <a:avLst/>
          </a:prstGeom>
          <a:ln w="0">
            <a:noFill/>
          </a:ln>
        </p:spPr>
      </p:pic>
      <p:pic>
        <p:nvPicPr>
          <p:cNvPr id="56" name="Arte%20Engeste" descr=""/>
          <p:cNvPicPr/>
          <p:nvPr/>
        </p:nvPicPr>
        <p:blipFill>
          <a:blip r:embed="rId10"/>
          <a:srcRect l="0" t="2401" r="3388" b="11232"/>
          <a:stretch/>
        </p:blipFill>
        <p:spPr>
          <a:xfrm>
            <a:off x="457200" y="7878600"/>
            <a:ext cx="5029200" cy="3017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746748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ENGESTE PARTICIPA DA HOMENAGEM AOS 60 ANOS DA CVRD EM SUPLEMENTO ESPECIAL DA REVISTA VE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529160"/>
            <a:ext cx="7086600" cy="3121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ff"/>
                </a:solidFill>
                <a:latin typeface="LibertyD"/>
              </a:rPr>
              <a:t>VOCÊ SAB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BenguiatGot Bk BT"/>
              </a:rPr>
              <a:t>Por um longo tempo, produtores de ferro-silício e silício permitiram que o subproduto Sílica Ativa escapasse para a atmosfera. Eles somente começaram a coletá-la após serem sujeitos a fortes regulamentações ambientais dos seus governos. Tiveram então que encontrar meios para minimizar ou eliminar a emissão dessas finíssimas partículas de poei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BenguiatGot Bk BT"/>
              </a:rPr>
              <a:t>Os países industrializados, produtores do silício e do ferro-silício, foram forçados a investir grandes importâncias em sofisticados sistemas de coleta de poeira, com o objetivo de recuperar este subproduto. Não havia qualquer perspectiva de que algum dia eles tirariam vantagem econômica de uma poeira tão fi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BenguiatGot Bk BT"/>
              </a:rPr>
              <a:t>A Sílica Ativa começou a ser utilizada como um material cimentício suplementar no concreto na Escandinávia, cujos pesquisadores obtiveram resultados interessantes no concreto usual. Rapidamente foi reconhecida a vantagem de se usar a Sílica Ativa como uma pozolana muito fina e reativa no Concreto de Alto Desempenh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BenguiatGot Bk BT"/>
              </a:rPr>
              <a:t>Pelo uso da Sílica Ativa é possível tornar trabalháveis concretos com resistências à compressão na faixa de 100MPa a 150MPa. Além da rápida reação pozolânica e do efeito físico das partículas – efeito filler, há um efeito químico relacionado com a germinação de cristais de portlandita. Assim, pela combinação desses diferentes modos de ação da Sílica Ativa no concreto, resulta uma microestrutura muito densa, formando um concreto com altíssima resistência à compressão, permeabilidade reduzida e pequena porosidade da pasta de cimento na sua interface com  o agreg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f5f5f"/>
                </a:solidFill>
                <a:latin typeface="Comic Sans MS"/>
              </a:rPr>
              <a:t>SECONCI-ES destaca Programa de Segurança da ENGE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CONCI" descr=""/>
          <p:cNvPicPr/>
          <p:nvPr/>
        </p:nvPicPr>
        <p:blipFill>
          <a:blip r:embed="rId11"/>
          <a:stretch/>
        </p:blipFill>
        <p:spPr>
          <a:xfrm>
            <a:off x="457200" y="2057400"/>
            <a:ext cx="4191120" cy="232560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648320" y="1447920"/>
            <a:ext cx="2895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99"/>
                </a:solidFill>
                <a:latin typeface="BenguiatGot Bk BT"/>
              </a:rPr>
              <a:t>ENGESTE COMPLETA 17 ANOS DE ATIV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99"/>
                </a:solidFill>
                <a:latin typeface="BenguiatGot Bk BT"/>
              </a:rPr>
              <a:t>“</a:t>
            </a:r>
            <a:r>
              <a:rPr b="1" lang="pt-BR" sz="1400" spc="-1" strike="noStrike">
                <a:solidFill>
                  <a:srgbClr val="ff3399"/>
                </a:solidFill>
                <a:latin typeface="BenguiatGot Bk BT"/>
              </a:rPr>
              <a:t>13 DE JUNHO DE 1985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NIVERS" descr=""/>
          <p:cNvPicPr/>
          <p:nvPr/>
        </p:nvPicPr>
        <p:blipFill>
          <a:blip r:embed="rId12"/>
          <a:stretch/>
        </p:blipFill>
        <p:spPr>
          <a:xfrm>
            <a:off x="4876920" y="2362320"/>
            <a:ext cx="259056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38680" y="7756560"/>
            <a:ext cx="1905120" cy="315216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34000" bIns="234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66"/>
                </a:solidFill>
                <a:latin typeface="Comic Sans MS"/>
              </a:rPr>
              <a:t>FALE COM A ENGE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omic Sans MS"/>
              </a:rPr>
              <a:t>TELEFO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27 3227 93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omic Sans MS"/>
              </a:rPr>
              <a:t>FA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27 3227 94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omic Sans MS"/>
              </a:rPr>
              <a:t>E-MAI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engeste@ebrnet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07-02T17:35:25Z</dcterms:modified>
  <cp:revision>116</cp:revision>
  <dc:subject/>
  <dc:title>Slide sem título </dc:title>
</cp:coreProperties>
</file>