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A9D-3347-4E83-B240-B63AED0F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FE2-C9E1-4343-BA1F-4A80810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541-2CFB-4CD8-810F-0562623E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24D-8E58-435A-AC98-925CEA93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222-8237-454D-8905-674AF57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0F7-2793-4EA9-8221-3F452479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129-B0B2-453F-96C3-57ECCD60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42C-3B66-4F03-BAEA-48BC791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5F9-4325-4561-BA0B-D2D140EC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82D-83B4-4D87-B6EB-3C25316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00B-E6D5-441C-808A-F703FA0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364-B93F-45D1-845D-D00B164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9320"/>
            <a:ext cx="253332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272E0CD4-2970-42FE-A53D-7BB780D1D1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4600" y="425520"/>
            <a:ext cx="7111800" cy="946080"/>
          </a:xfrm>
          <a:prstGeom prst="rect">
            <a:avLst/>
          </a:prstGeom>
          <a:gradFill rotWithShape="0">
            <a:gsLst>
              <a:gs pos="0">
                <a:srgbClr val="325a66"/>
              </a:gs>
              <a:gs pos="50000">
                <a:srgbClr val="ffffff"/>
              </a:gs>
              <a:gs pos="100000">
                <a:srgbClr val="325a66"/>
              </a:gs>
            </a:gsLst>
            <a:lin ang="5400000"/>
          </a:gra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NGESTE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155600" cy="46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11960" y="900000"/>
            <a:ext cx="833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621400" y="528480"/>
          <a:ext cx="528480" cy="614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1400" y="528480"/>
                    <a:ext cx="528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261120" y="523800"/>
          <a:ext cx="690480" cy="847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61120" y="523800"/>
                    <a:ext cx="690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023240" y="1220760"/>
            <a:ext cx="533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034040" y="484200"/>
          <a:ext cx="43524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4040" y="484200"/>
                    <a:ext cx="435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4600" y="990720"/>
            <a:ext cx="1689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JULHO/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44800" y="749160"/>
            <a:ext cx="1866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ogo_pbqp-h" descr=""/>
          <p:cNvPicPr/>
          <p:nvPr/>
        </p:nvPicPr>
        <p:blipFill>
          <a:blip r:embed="rId8"/>
          <a:stretch/>
        </p:blipFill>
        <p:spPr>
          <a:xfrm>
            <a:off x="4572000" y="549360"/>
            <a:ext cx="939960" cy="74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8916840"/>
            <a:ext cx="3555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LOBO" descr=""/>
          <p:cNvPicPr/>
          <p:nvPr/>
        </p:nvPicPr>
        <p:blipFill>
          <a:blip r:embed="rId9"/>
          <a:stretch/>
        </p:blipFill>
        <p:spPr>
          <a:xfrm>
            <a:off x="1689120" y="576360"/>
            <a:ext cx="44460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114800"/>
            <a:ext cx="7162920" cy="4897080"/>
          </a:xfrm>
          <a:prstGeom prst="rect">
            <a:avLst/>
          </a:prstGeom>
          <a:noFill/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2ad1d"/>
                </a:solidFill>
                <a:latin typeface="Brisk"/>
              </a:rPr>
              <a:t>VOCÊ SAB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grande consumo de concreto  pelos seres humanos deve-se a algumas qualidades inerentes ao concreto como material de construção; O concreto continua sendo um material de construção barato, incorporando cerca de 85% de materiais locais (areia, agregado graúdo e água), tem uma resistência muito boa ao fogo e à água, não é atacado por insetos, não se deteriora, é geralmente durável numa grande variedade de ambientes, e sua produção e uso não requerem tecnologia altamente sofistic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aumento no uso de concreto de alto desempenho e sua monitoração inteligente, permitirão refinar os métodos atuais de projeto e a previsão da vida útil das estruturas feitas com 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rá um material mais robusto, menos sensível às variações de qualidade do cimento e do superplastificante ou da temperatura ambiente. O desenvolvimento de calor, a retração e a fluência serão reduz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 tecnologia do concreto terá que evoluir do baixo nível tecnológico para o alto nível tecnológico, não apenas o material em si mesmo, mas também o seu lançamento, visto que no mundo todo verifica-se trabalho em demasia para construir e lançar concreto em elementos estruturais, a considerar que 7/8 do tempo para preenchimento de concreto são dedicados a levantar as formas e colocar as armaduras de aço, o que representa trabalho inten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s pesquisadores dizem que o concreto padece da Síndrome dos 4D’s em inglês (Difficult, Dangerous, Dirty and Desesperately Undervalued), ou seja, difícil, perigoso, sujo e desesperadamente subvalorizado. Diversas técnicas de lançamento , tais como os concretos autonivelantes e os concretos compactados com rolo já têm sido desenvolvidas para facilitar o uso do concreto de alto desempenho e combater estas deficiênc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424240"/>
            <a:ext cx="39625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 ENFIL S/A contratou-nos para a execução das Obras Civis (fundações, estruturas, sala elétrica e outros serviços) dos novos precipitadores eletrostáticos das Usinas  Nibrasco / CVRD, Ponta de Tubar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 ENGESTE desenvolverá os Projetos Estruturais e as obras serão concluídas integralmente até 30/11/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805040"/>
            <a:ext cx="2971800" cy="2078280"/>
          </a:xfrm>
          <a:prstGeom prst="rect">
            <a:avLst/>
          </a:prstGeom>
          <a:noFill/>
          <a:ln w="1015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Brisk"/>
              </a:rPr>
              <a:t>ENGESTE X PROG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 PROGEMON Indústria e Comércio, responsável pelo Projeto de Substituição das Bombas de Vácuo das Usinas 1 e 2 da CVRD, contratou-nos para as obras das estruturas das bases de apo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9328320"/>
            <a:ext cx="3505320" cy="1484640"/>
          </a:xfrm>
          <a:prstGeom prst="rect">
            <a:avLst/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18000" tIns="234000" bIns="234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66"/>
                </a:solidFill>
                <a:latin typeface="Comic Sans MS"/>
              </a:rPr>
              <a:t>FALE COM A ENGES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omic Sans MS"/>
              </a:rPr>
              <a:t>TELEFONE: </a:t>
            </a:r>
            <a:r>
              <a:rPr b="1" lang="pt-BR" sz="1200" spc="-1" strike="noStrike">
                <a:solidFill>
                  <a:srgbClr val="000000"/>
                </a:solidFill>
                <a:latin typeface="BenguiatGot Bk BT"/>
              </a:rPr>
              <a:t>27 3227 93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omic Sans MS"/>
              </a:rPr>
              <a:t>FAX: </a:t>
            </a:r>
            <a:r>
              <a:rPr b="1" lang="pt-BR" sz="1200" spc="-1" strike="noStrike">
                <a:solidFill>
                  <a:srgbClr val="000000"/>
                </a:solidFill>
                <a:latin typeface="BenguiatGot Bk BT"/>
              </a:rPr>
              <a:t>27 3227 94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99"/>
                </a:solidFill>
                <a:latin typeface="Comic Sans MS"/>
              </a:rPr>
              <a:t>E-MAIL: </a:t>
            </a:r>
            <a:r>
              <a:rPr b="1" lang="pt-BR" sz="1200" spc="-1" strike="noStrike">
                <a:solidFill>
                  <a:srgbClr val="000000"/>
                </a:solidFill>
                <a:latin typeface="BenguiatGot Bk BT"/>
              </a:rPr>
              <a:t>engeste@ebrnet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88280"/>
            <a:ext cx="35053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BenguiatGot Bk BT"/>
              </a:rPr>
              <a:t>CAMPANHA SECONCI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BenguiatGot Bk BT"/>
              </a:rPr>
              <a:t>Prevenção do Câncer de Próst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CONCI desenvolverá neste mês uma ampla campanha e ação de consultas e exames para os trabalhadores da Construção Civil e estará em nossos canteiros nos dias 20 e 21 de agos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22600"/>
            <a:ext cx="41148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BenguiatGot Bk BT"/>
              </a:rPr>
              <a:t>ENFIL S/A – Controle Ambie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BenguiatGot Bk BT"/>
              </a:rPr>
              <a:t>Precipitadores Eletrostáticos Usinas 5/6 Nibra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09-03T11:54:54Z</dcterms:modified>
  <cp:revision>137</cp:revision>
  <dc:subject/>
  <dc:title>Slide sem título </dc:title>
</cp:coreProperties>
</file>