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F66-8E6F-45DF-BBFD-91939321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891-DABF-49F0-9EC6-24DDA968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FE5-EEEC-478B-888A-8B7B0637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788-5549-44B9-A9B7-9F1C7CFA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AF1-816F-4169-9ECD-F407FA3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4A0-C42D-45EE-AFB5-BF0A3DEC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17B-9715-4E11-A1BF-5B1C7724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06D-A938-4A79-802F-41C01D84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F32-94B1-461E-A594-39EE84D9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816-299E-4028-9E72-DE77174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AB5-C16A-43D3-8397-F9FF9F2B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DCD-BDD3-44D9-B6AD-F9C706AB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37DA-B169-4D68-909B-591D3BFF6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65560" y="8140680"/>
            <a:ext cx="3200400" cy="1541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BenguiatGot Bk BT"/>
              </a:rPr>
              <a:t>ENGESTE ALCANÇA 150.000 horas SEM ACID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ONVITE%203_SEM" descr=""/>
          <p:cNvPicPr/>
          <p:nvPr/>
        </p:nvPicPr>
        <p:blipFill>
          <a:blip r:embed="rId1"/>
          <a:stretch/>
        </p:blipFill>
        <p:spPr>
          <a:xfrm>
            <a:off x="326880" y="144792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476280"/>
            <a:ext cx="6096240" cy="895320"/>
          </a:xfrm>
          <a:prstGeom prst="rect">
            <a:avLst/>
          </a:prstGeom>
          <a:gradFill rotWithShape="0">
            <a:gsLst>
              <a:gs pos="0">
                <a:srgbClr val="96b9dc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NGESTE" descr=""/>
          <p:cNvPicPr/>
          <p:nvPr/>
        </p:nvPicPr>
        <p:blipFill>
          <a:blip r:embed="rId2"/>
          <a:stretch/>
        </p:blipFill>
        <p:spPr>
          <a:xfrm>
            <a:off x="457200" y="579600"/>
            <a:ext cx="990720" cy="41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24280" y="882720"/>
            <a:ext cx="714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Console"/>
              </a:rPr>
              <a:t>Accredi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Console"/>
              </a:rPr>
              <a:t>By the R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815000" y="604800"/>
          <a:ext cx="461880" cy="538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5000" y="604800"/>
                    <a:ext cx="461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359320" y="552600"/>
          <a:ext cx="606600" cy="742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9320" y="552600"/>
                    <a:ext cx="60660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019920" y="1173240"/>
            <a:ext cx="45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OCS-0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26040" y="565200"/>
          <a:ext cx="3812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26040" y="565200"/>
                    <a:ext cx="3812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80880" y="100476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BRIL/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716040"/>
            <a:ext cx="1600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ISO 9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0400" y="144792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ENGESTE REALIZA SEMINÁRIO de QUALIDADE E SEGURANÇ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9280" y="5829480"/>
            <a:ext cx="535464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666"/>
                </a:solidFill>
                <a:latin typeface="LibertyD"/>
              </a:rPr>
              <a:t>engeste entrega a obra do GALPÃO DE SULFATOS - cv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8947080"/>
            <a:ext cx="2678400" cy="577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Comic Sans MS"/>
              </a:rPr>
              <a:t>FALE COM A ENGES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elefone: 27 3227 93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-mail: </a:t>
            </a: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engeste@ebrnet.com.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_pbqp-h" descr=""/>
          <p:cNvPicPr/>
          <p:nvPr/>
        </p:nvPicPr>
        <p:blipFill>
          <a:blip r:embed="rId9"/>
          <a:stretch/>
        </p:blipFill>
        <p:spPr>
          <a:xfrm>
            <a:off x="4057560" y="685800"/>
            <a:ext cx="666720" cy="53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2133720"/>
            <a:ext cx="327636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o dia 11 de abril passado a ENGESTE realizou  Seminário abordando temas ligados a Qualidade e Segurança na Construção Civil. O evento aconteceu nas instalações da AERT – Associação Esportiva e Recreativa de Tubarão e contou com a participação de funcionários e convid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pós o Seminário houve uma confraternização em comemoração ao alcance das 150.000 horas com 500 dias completos, sem acidente SPT/CPT no Contrato de Manutenção Civil e Industrial – GASEP/CV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6172200"/>
            <a:ext cx="280800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A ENGESTE entregou no dia 9 de abril o Galpão de Sulfatos/CVRD. Com 3.600m</a:t>
            </a:r>
            <a:r>
              <a:rPr b="0" lang="pt-BR" sz="1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de área coberta e volume de armazenagem de 17.000 toneladas, a obra foi executada em prazo recorde de 120 di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7805880"/>
            <a:ext cx="304812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eminário%2001" descr=""/>
          <p:cNvPicPr/>
          <p:nvPr/>
        </p:nvPicPr>
        <p:blipFill>
          <a:blip r:embed="rId10"/>
          <a:srcRect l="28806" t="15887" r="0" b="24459"/>
          <a:stretch/>
        </p:blipFill>
        <p:spPr>
          <a:xfrm>
            <a:off x="434880" y="3886200"/>
            <a:ext cx="3070440" cy="175248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63" name="GLOBO" descr=""/>
          <p:cNvPicPr/>
          <p:nvPr/>
        </p:nvPicPr>
        <p:blipFill>
          <a:blip r:embed="rId11"/>
          <a:stretch/>
        </p:blipFill>
        <p:spPr>
          <a:xfrm>
            <a:off x="1447920" y="628560"/>
            <a:ext cx="380880" cy="362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19680" y="1765440"/>
            <a:ext cx="15015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LibertyD"/>
              </a:rPr>
              <a:t>VOCÊ SABI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87920" y="2260440"/>
            <a:ext cx="2678040" cy="33580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O material mais largamente usado em construção é o concreto, normalmente feito com a mistura de cimento Portland com areia, pedra e água. Nos Estados Unidos, 63 milhões de toneladas de cimento Portland são convertidas em 500 milhões de toneladas de concreto por ano, cinco vezes o consumo de aço, em massa. Em muitos países, o consumo do concreto é dez vezes maior que o do aço. O consumo mundial total de concreto é estimado em três bilhões de toneladas, ou seja, meia tonelada por ser humano vivo. O homem não consome nenhum outro material em tal quantidade, a não ser a águ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5551560" y="1609560"/>
            <a:ext cx="914400" cy="524160"/>
          </a:xfrm>
          <a:prstGeom prst="rect">
            <a:avLst/>
          </a:prstGeom>
          <a:ln w="0">
            <a:noFill/>
          </a:ln>
        </p:spPr>
      </p:pic>
      <p:pic>
        <p:nvPicPr>
          <p:cNvPr id="67" name="FAIXA%20MANUTENÇÃO%20CIVIL" descr=""/>
          <p:cNvPicPr/>
          <p:nvPr/>
        </p:nvPicPr>
        <p:blipFill>
          <a:blip r:embed="rId13"/>
          <a:stretch/>
        </p:blipFill>
        <p:spPr>
          <a:xfrm>
            <a:off x="3505320" y="8381880"/>
            <a:ext cx="2595600" cy="1067040"/>
          </a:xfrm>
          <a:prstGeom prst="rect">
            <a:avLst/>
          </a:prstGeom>
          <a:ln w="0">
            <a:noFill/>
          </a:ln>
        </p:spPr>
      </p:pic>
      <p:pic>
        <p:nvPicPr>
          <p:cNvPr id="68" name="Galpão%2014" descr=""/>
          <p:cNvPicPr/>
          <p:nvPr/>
        </p:nvPicPr>
        <p:blipFill>
          <a:blip r:embed="rId14"/>
          <a:stretch/>
        </p:blipFill>
        <p:spPr>
          <a:xfrm>
            <a:off x="3276720" y="6237360"/>
            <a:ext cx="3200400" cy="173808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pic>
        <p:nvPicPr>
          <p:cNvPr id="69" name="Moega_2" descr=""/>
          <p:cNvPicPr/>
          <p:nvPr/>
        </p:nvPicPr>
        <p:blipFill>
          <a:blip r:embed="rId15"/>
          <a:srcRect l="0" t="4287" r="0" b="0"/>
          <a:stretch/>
        </p:blipFill>
        <p:spPr>
          <a:xfrm>
            <a:off x="380880" y="7086600"/>
            <a:ext cx="2667240" cy="171468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7:17:47Z</dcterms:created>
  <dc:creator>Leticia Murta Tedesco</dc:creator>
  <dc:description/>
  <dc:language>en-US</dc:language>
  <cp:lastModifiedBy>E</cp:lastModifiedBy>
  <dcterms:modified xsi:type="dcterms:W3CDTF">2002-05-03T18:02:04Z</dcterms:modified>
  <cp:revision>65</cp:revision>
  <dc:subject/>
  <dc:title>Slide sem título </dc:title>
</cp:coreProperties>
</file>